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73A-A66A-4D4C-ABAA-6B60348A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7B1-54CA-45C7-9834-CD88A94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068-DEA5-4012-9337-4D67D7A4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A05-4F22-45ED-BECA-8772A6D6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27F-5168-4656-A00F-3FDBDC4E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AA1-C4E0-400D-96C8-1606A399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A90-459E-4857-A25E-A77E472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383-F2F5-4510-8363-380254D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587-5BDB-431C-8C68-1B710A8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F3B-2849-4135-8051-729BD5B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F37-7073-433D-B736-45D2325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824-DA9D-47DC-AC05-4A881B5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4482-3217-40A0-AE5D-62BD7B3E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its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2 nov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an Priis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ünnete eripä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õhjus on taht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ierarhia kõrvale on vaja sta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het saab mõju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stase informatsiooni saab rün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Rünne on kahe tahte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0720" y="5157720"/>
            <a:ext cx="1656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sidendi uu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õige olulisem eesmärk on õppi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eejärel tõendite kogumine veenmise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ristamiseks (kohtumõis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üvitamiseks (kindlus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lesüüdistuste vääramis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ristamine ei ole esimene eesmä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imeste käitumise muut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äitumist muutev sõnum tuleb kohale v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meie ründamine on halb id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ristamine muudab sõnumi usutav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riikidel ustutav heidu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het mõjutatakse läbi tagasi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avastamine võib olla efektiivne mee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Õppimiseks valige odavad v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nimese ründekindlus on 500kr kuni 50Mkr, edasi on organisats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inimaalse töö ta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stane on a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s on minimaalselt vaja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ille võib ohver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da meil selle tagamiseks vaja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llises järjekorrast tuleb taas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eil peab olema usaldatav pl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estimise mõ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laani usaldusväärsuse kont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s me teame kõiki kompo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s me teame kõiki sõltuv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treeni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litluspidevuse olulisuse õp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riisiolukorras käitumise lihvi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tsidendi aja va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äitumise paradigma muu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valine juh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märkide palju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õimalikult lame ja ökonoom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Hälbeid arvestav ja väli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riisijuh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Üks eesmä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õimalikult kiire ja efekti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tsustamatus on kulukam kui v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riisis vajatakse teistsugust infovahetuse struktu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Ressursse tuleb ikkagi kasutada neid sää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lanee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nne ennast (Sun T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s on meie väärtuse a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da me suudame ette võ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ine olukord on lootusetu (me oleme absurd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s aja jooksul peame taast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ist andmekadu võime endale lu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nne vastast (Sun T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taastada tegevus nul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iseid teisi olukordi meil ette võib t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aru saada millises olukorras o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otamatuse plaan ei saa kunagi olla täp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Hea plaan võtab 10 aastat arenemis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sidentide liig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õenäo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idu/Pii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septe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lu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j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õenäosuse hind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Ära kasuta suhtlemiseks prot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10 aastat on ülemine pi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li situatsioonid kus tegevuse mõte säi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orra päevas peab olema rutiinselt halla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(Igapäevases tegevuses arvestatu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õhimõt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Jaga ja valit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Funktsionaalsus tuleb maha piirata hallatavus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õigile peab jääma nende õige “tük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eerukus kaotab kontrollivõimaluse (K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gas ahelas on tagasi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tsessid on eksponentsiaal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õige olulisem number on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üsimus pole mitte “kas” vaid mill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lati võisteldakse aj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ist reaalsust pole o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81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udat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is on plahvatuse al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uudatus (müü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imeste tunne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etatakse kiiren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kspondendi puhul sama kuj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 kõvera teise tuletise integraal on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ete ootused on lineaa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jaloost õppides tehakse alati v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mpiiriline tunnetus on puudu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ärkused katkestuste 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hjud suurenevad eksponentsiaals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sident tuleb lahendada kiir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4h katkestus suurendas loomulikku 1/3 suremust 2/3-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janduse olulise haru katk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oomulik puhver 3 pä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0 päeva pärast säilib väärtusest 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sidendi käsit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laneeri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da me kaitseme (miinimum, millist aspek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lle vastu kaitseme (mis on absu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ttevalmi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essu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lukorra hindamine ja otsu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uhtimine peab olema ki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ahjude piiram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 töö pea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inimaalse funktsionaalsuse ta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ormaalolukorra ta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ntsidendi analüü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õuab dokumenteeri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ubleerimise mõ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2243160" cy="4525920"/>
            <a:chOff x="457200" y="1600200"/>
            <a:chExt cx="2243160" cy="45259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22431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457200" y="1600200"/>
              <a:ext cx="22431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1640" y="162864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hend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üsteem ei töö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ks pool on k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ik töö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Juhusliku ohu korral on kollase ruut pun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arandma peab kiir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03:57Z</dcterms:created>
  <dc:creator>Hansabank Employee</dc:creator>
  <dc:description/>
  <dc:language>en-US</dc:language>
  <cp:lastModifiedBy>Hansabank Employee</cp:lastModifiedBy>
  <dcterms:modified xsi:type="dcterms:W3CDTF">2008-11-21T23:15:35Z</dcterms:modified>
  <cp:revision>8</cp:revision>
  <dc:subject/>
  <dc:title>Seitsmes</dc:title>
</cp:coreProperties>
</file>